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06B-8EFD-4946-B7EC-9BC65799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A4C-6D8B-4703-A374-5190E347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62E-C51F-4291-B48F-47A40A22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891-0E35-4A65-AE32-465FBF79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634-5FE9-40B3-9F1A-220E3321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FC3-DED1-4C04-87F5-06F1A525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B74-0E24-413D-83D6-5A1AF6DF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C85-1C73-4FC6-B32F-5EC3B981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D19-F07E-414A-B13B-CCA8900B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B2C-9ED5-42A0-8CD7-5D380CDA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034-1BBA-47AB-A7F3-60828544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089-7761-4608-8F11-5F984699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E5FF-5637-4031-8778-ABD6148CE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"/>
              </a:rPr>
              <a:t>Answer My Question</a:t>
            </a:r>
            <a:r>
              <a:rPr b="0" lang="en-US" sz="4400" spc="-1" strike="noStrike">
                <a:solidFill>
                  <a:srgbClr val="ff0000"/>
                </a:solidFill>
                <a:latin typeface="Broadway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133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852640"/>
            <a:ext cx="6842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ow many species of tarantula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Do tarantula’s like living alone or with other tarantula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Are tarantul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12000" y="29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 Cond"/>
              </a:rPr>
              <a:t>800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720" y="3357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 Cond"/>
              </a:rPr>
              <a:t>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0:44:38Z</dcterms:created>
  <dc:creator>dylan.iribarne</dc:creator>
  <dc:description/>
  <dc:language>en-US</dc:language>
  <cp:lastModifiedBy>dylan.iribarne</cp:lastModifiedBy>
  <dcterms:modified xsi:type="dcterms:W3CDTF">2009-06-16T00:51:36Z</dcterms:modified>
  <cp:revision>2</cp:revision>
  <dc:subject/>
  <dc:title>Answer My Question!!!</dc:title>
</cp:coreProperties>
</file>